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86486-4574-4C93-83EB-CDB0A7BA9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A4E34-174B-463C-9C92-1E13F0968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B408D-4785-481A-B5CE-AECB84CC9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38394-9C26-4450-AA46-EE9A3199D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FA56A-B604-4398-8466-55871AF0B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DFFF9-3884-4F4A-951B-FA7E0F9A1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B2A1D-0DD0-4407-B7B2-3847809BF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3D118-E45D-400E-8C29-5C1274417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0C301-61C8-4817-8A98-10FD6D6BB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E8F22-ECE2-4F92-84FC-E58757352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57254-48B7-49ED-AF58-5CC8FFDE1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62743-1E61-46FD-BC8C-06DF0A835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0FFED-FFFF-4154-9C18-1365DF9D7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19D06-AD8A-45C6-A4C3-39A412038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55BA3-98B8-4622-B683-6D9716A3E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5DC9E-7505-4624-9186-C137ACFF9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1F125-1C3D-4068-BF15-B06CF02D7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AE029-C945-4F84-A14F-002B6FC70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002A8-D5DC-42F8-BDB5-80AD653EA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E154C-0440-4171-9D4E-851F1B905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93444-1E77-496D-8FA5-2483720F5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EDFA8-F9B9-49A0-B784-BF917EF42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1EE33-6D9F-41C9-B2DE-6C4FDA96F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40EFF-9781-428A-8D53-9FA679400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A1CB1-B455-4A5B-BBB3-B19ADE4242B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E6C64-24CF-4119-B53B-9E71588D47A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26792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dbbd71"/>
                </a:solidFill>
                <a:latin typeface="굴림"/>
              </a:rPr>
              <a:t>10</a:t>
            </a: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장 의사소통장애아 교육</a:t>
            </a:r>
            <a:r>
              <a:rPr b="0" lang="en-US" sz="5400" spc="-1" strike="noStrike">
                <a:solidFill>
                  <a:srgbClr val="dbbd71"/>
                </a:solidFill>
                <a:latin typeface="굴림"/>
              </a:rPr>
              <a:t> </a:t>
            </a:r>
            <a:endParaRPr b="0" lang="en-US" sz="5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언어의 기초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언어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호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아이디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속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체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삶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음기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 공명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두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순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준언어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어 기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미의 전달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초분절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주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음성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언어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몸짓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얼굴표정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언어의 구성요소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form)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content)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use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어휘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구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통사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화용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honology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 체계의 규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분절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morphology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독립과 종속 형태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구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syntax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어휘의 배열 규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semantic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물의 관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건 사이의 관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화용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ragmatics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의 사용 규칙과 방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의사소통 장애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발성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음 및 음운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창성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언어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보완대체 의사소통 체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Bliss Symbo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질문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692360" y="1700280"/>
            <a:ext cx="5688000" cy="44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4T20:36:39Z</dcterms:created>
  <dc:creator>.</dc:creator>
  <dc:description/>
  <dc:language>en-US</dc:language>
  <cp:lastModifiedBy>f</cp:lastModifiedBy>
  <dcterms:modified xsi:type="dcterms:W3CDTF">2007-05-17T01:21:41Z</dcterms:modified>
  <cp:revision>25</cp:revision>
  <dc:subject/>
  <dc:title>제 10장 중복장애 </dc:title>
</cp:coreProperties>
</file>