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6C63-AC26-43EE-AFB6-FDC9B9A2B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B163-2CF2-44EA-8980-C0BF5017C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2893-41EC-4243-A901-596286C90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C7F7-3D85-4CF9-AEB4-ACB64FB25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CA4E8-B4AD-4FCD-9066-019647F52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29276-082C-44E8-8F27-52FAB7980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E2A22-D025-480E-BD9D-9F3008481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CCFE5-D9B4-4697-94BF-0F5953B39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2CD4F-2C06-42AD-BB59-A6B40AB64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C0E75-B5FB-455F-975D-5BD5CCF4B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8197C-3FA3-4DED-A39D-4573DCBD2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C8CD-DE1E-46F6-8DEA-B2E320DD7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D96FE-FCBB-4D7C-9C04-0E28DF54A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BA113-62A0-4057-AF95-73CEC9C3D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FACA3-463E-4CD2-A0BA-443457B9A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5A5B4-E185-4D99-A169-6367B0A95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A0FCC-1C76-4080-8355-61C7E8B41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CEE5-A293-4E35-BA03-86516F0E9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81BC-C002-4E93-B37E-E76E62D1A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6530-02A4-4346-9028-919815355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AC3E-B09C-4448-8BD8-357B303BF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E51C-A3BA-4CBA-B82B-FA1173671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0570-3D05-4BB3-B9D5-4887370C4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0707-08BD-43AF-8289-A06E13D90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CDCBA-A383-47FC-911F-DAD12C1030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3FDDD-B1DC-46F8-87B9-E9C235EB73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3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원의 권리•의무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치 활동의 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집단 행위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영리업무 및 겸직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받을 권리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익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헌법의 교육의 기회를 균등하게 받을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친권적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모의 자녀에 대한 교육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탁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가 교육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사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고등전문직으로서의 자유재량권 행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윌슨의 저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행정 당국으로부터 교육당국의 독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유로운 교육의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의 제정 및 운영에의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당한 지배로부터의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학의 학문적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주적인 단체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부여 받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지키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언행일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위로서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통제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급별에 따라서 교원의 권위는 달라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권위의 구성 요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권위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신수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통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합리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1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 자신의 내재적 권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덕적 사회적 성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2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외재적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적 이론적 측면에서의 수월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3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권위에 대한 학생의 태도와 심리적 경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크라테스는 왜 죽었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너 자신을 알라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악법도 법이다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우리의 권리와 의무는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신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정 직업인으로서 교사자격증을 가지고 정규 학교에서 학생들을 대상으로 교육활동을 하는 전문적인 직업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공민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기술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&amp;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송통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등의 공•사립의 모든 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설강습소와 직업훈련원은 아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종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와 특수학교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와 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원과 배치는 대통령령으로 정한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총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임강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예교수 추대는 대통령령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.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정직원과 조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정 교모 이하인 경우는 원감을 두지 않을 수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초등학교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&amp;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학교의 교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종류의 교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1, 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급 정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준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상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서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기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는 직위가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직교사는 업무 분장상의 보직 명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그러나 직위 또는 자격이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적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교육활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신분보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침해 사항 방지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성의 신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능력의 자율성 보장과 함께 사회적 책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치적 중립성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생활보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보수 수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p. 10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조건 개선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당 인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업 부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잡무 과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•후생제도의 확충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연금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녀학비 및 장학금 지급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주택 교원 지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분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쟁송제기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징계의 사유와 종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. 118 &amp;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-11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재심 위원회에 재심 요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연장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행정 소송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체포특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행범이 아닐 경우에는 학교장의 동의 요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직단체 활동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 및 연구활동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품위 유지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밀엄수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9T02:25:13Z</dcterms:created>
  <dc:creator>XPuser</dc:creator>
  <dc:description/>
  <dc:language>en-US</dc:language>
  <cp:lastModifiedBy>staff</cp:lastModifiedBy>
  <dcterms:modified xsi:type="dcterms:W3CDTF">2008-10-10T05:14:04Z</dcterms:modified>
  <cp:revision>8</cp:revision>
  <dc:subject/>
  <dc:title>제 3장 교원의 권리•의무</dc:title>
</cp:coreProperties>
</file>